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1CB-F4F3-4AC9-A3F4-BBA4C576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7D5B-D90C-479A-889B-3168AADA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CD0-36E6-486F-A6D2-B6D8674D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C724-9C5D-4D2B-BCCD-CBA00ECF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E5C-66D9-40C7-BB52-ADD79911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77F-0F5B-4B47-9953-49C7CD4E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D3C-35A7-40E5-97A3-54F5929D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D84-5F87-46D4-BC82-C2FEE38C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445-153D-4728-8145-93A0A663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BF5-F663-4314-8D40-DC449470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FF1-A581-44DE-8C1A-2B222486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455-7816-478F-8621-41EA6EE1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4219-AD0E-4836-A6F1-F5FFD02EA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S HISTORY UP TO 19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Brianna Sullivan ,Wilson 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RUSSIAS HISTORY BEG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people called the Slavs started a civilization called the kievan  Rus around present day Kiev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D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614600"/>
            <a:ext cx="8228520" cy="4494600"/>
            <a:chOff x="457200" y="1614600"/>
            <a:chExt cx="8228520" cy="4494600"/>
          </a:xfrm>
        </p:grpSpPr>
        <p:cxnSp>
          <p:nvCxnSpPr>
            <p:cNvPr id="48" name="_s12301"/>
            <p:cNvCxnSpPr>
              <a:stCxn id="49" idx="0"/>
              <a:endCxn id="50" idx="2"/>
            </p:cNvCxnSpPr>
            <p:nvPr/>
          </p:nvCxnSpPr>
          <p:spPr>
            <a:xfrm flipV="1" rot="16200000">
              <a:off x="5229360" y="2753640"/>
              <a:ext cx="899640" cy="2215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2300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3013560" y="2753640"/>
              <a:ext cx="899640" cy="2216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0" name="_s12296"/>
            <p:cNvSpPr/>
            <p:nvPr/>
          </p:nvSpPr>
          <p:spPr>
            <a:xfrm>
              <a:off x="2673000" y="16146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ONGOLS INVAD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2297"/>
            <p:cNvSpPr/>
            <p:nvPr/>
          </p:nvSpPr>
          <p:spPr>
            <a:xfrm>
              <a:off x="45720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KIEV LOST LOTS OF MONE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2298"/>
            <p:cNvSpPr/>
            <p:nvPr/>
          </p:nvSpPr>
          <p:spPr>
            <a:xfrm>
              <a:off x="488808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OST LOTS OF POW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C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ly developed into Rus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4:48:12Z</dcterms:created>
  <dc:creator> </dc:creator>
  <dc:description/>
  <dc:language>en-US</dc:language>
  <cp:lastModifiedBy> </cp:lastModifiedBy>
  <dcterms:modified xsi:type="dcterms:W3CDTF">2010-12-14T17:23:39Z</dcterms:modified>
  <cp:revision>13</cp:revision>
  <dc:subject/>
  <dc:title>RUSSIA`S HISTORY FROM 1917</dc:title>
</cp:coreProperties>
</file>